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79C-0579-46FD-8A9C-6B6A4D56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315-2448-4474-8DB7-8F35F09D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E26-B270-412D-896F-F2963C23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0C6-5FCC-43A6-9890-EC6D44B3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915-6EAA-49DF-8F79-D4846EF1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4CD-779B-4190-9BF8-8496A623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CFA-CD34-4051-8E18-3A19F49D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C76-34A7-47B3-9549-840EEE85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200-C3FB-4BA3-81EB-664EA96F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7F2-DFC0-4C0D-B79F-5273FDF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F0C-107B-4B55-9543-9503A6A7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703-81C7-496E-A01B-63E42F77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D5A1-103E-4CE9-9E4E-2510349418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181080"/>
            <a:ext cx="8839440" cy="6634080"/>
            <a:chOff x="152280" y="181080"/>
            <a:chExt cx="8839440" cy="6634080"/>
          </a:xfrm>
        </p:grpSpPr>
        <p:sp>
          <p:nvSpPr>
            <p:cNvPr id="6" name=""/>
            <p:cNvSpPr/>
            <p:nvPr/>
          </p:nvSpPr>
          <p:spPr>
            <a:xfrm>
              <a:off x="152280" y="60336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157320" y="6357960"/>
            <a:ext cx="244764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320" y="6357960"/>
                      <a:ext cx="24476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152280" y="624852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5720" y="6327720"/>
              <a:ext cx="18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181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35760" y="293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DIgitalNetworkingLeader글자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2666880" cy="585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862360" y="4932360"/>
            <a:ext cx="3462120" cy="901800"/>
            <a:chOff x="2862360" y="4932360"/>
            <a:chExt cx="3462120" cy="901800"/>
          </a:xfrm>
        </p:grpSpPr>
        <p:graphicFrame>
          <p:nvGraphicFramePr>
            <p:cNvPr id="52" name=""/>
            <p:cNvGraphicFramePr/>
            <p:nvPr/>
          </p:nvGraphicFramePr>
          <p:xfrm>
            <a:off x="2862360" y="4932360"/>
            <a:ext cx="3429000" cy="80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4932360"/>
                      <a:ext cx="3429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733920" y="5497560"/>
              <a:ext cx="259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62320" y="2133720"/>
            <a:ext cx="579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xt Generation Communication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S1000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326840" y="4506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003.0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335640" y="7621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8040" y="7632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IO and LAN port u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12760" y="849240"/>
            <a:ext cx="7178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have 1 LAN(10 base T) port and 4 SIO por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fault 4 SIO ports u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IOT 1) on left panel : for system monitor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IOT 2) on left panel : for external V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CN 4) on IOTU : for PMS/SMD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 user can assign the SIO ports and LAN port for other service by followed procedur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to CP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) go to CONFIG menu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3) select the menu 1.10 Config File Mak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4) make 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5) save the configuration to file by save button(config.sy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6) execute the FTP File Manager in Tool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7) connect to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8) upload the config.sys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9) disconnect the FTP File Mana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0) close the FTP File Mana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1) restart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PE01832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744640" cy="250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26440" y="1844640"/>
            <a:ext cx="350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If there is any config.sys file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ll default usage of SIO will be ignor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8400" y="7632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Off Line Data Generation(Virtual CS1000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o1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810240" cy="1400040"/>
          </a:xfrm>
          <a:prstGeom prst="rect">
            <a:avLst/>
          </a:prstGeom>
          <a:ln w="0">
            <a:noFill/>
          </a:ln>
        </p:spPr>
      </p:pic>
      <p:pic>
        <p:nvPicPr>
          <p:cNvPr id="159" name="o2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4353120" cy="3476880"/>
          </a:xfrm>
          <a:prstGeom prst="rect">
            <a:avLst/>
          </a:prstGeom>
          <a:ln w="0">
            <a:noFill/>
          </a:ln>
        </p:spPr>
      </p:pic>
      <p:pic>
        <p:nvPicPr>
          <p:cNvPr id="160" name="03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4267080" cy="2590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43400" y="1143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 system manager can generate the customer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his office even through he don’t have the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8400" y="7632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twork Synchronization Ru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365040" y="838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89080" y="1049400"/>
            <a:ext cx="859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ngular Sync. Master Use C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pre assigned local board, if the local board reports Sync-fai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CPM, the local board will receive the Sync. Slave command from CPM and CPM will use own clo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mmediate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own clock, if the Board reports Sync-recover to CPM, CPM will wait about 7sec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 the time, if the local board don’t report Sync-fail to CPM any more, the local board will receive th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. Master command from CPM and CPM will use the outside clock from the local boar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85840" y="3206880"/>
            <a:ext cx="8597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lural Sync. Master Use C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local board having the first priority, if the local board repor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-fail to CPM, the local board will receive the Sync. Slave command from CPM immediately and th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cal board having the second priority will receive the Sync. Master command in 5secs and CPM will use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outside clock from the new master local board immediate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new master local board, if the local board having the firs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iority reports Sync-recover to CPM, CPM will wait about 30sec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 the time, if the local board don’t report Sync-fail to CPM any more, the local board will receive th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. Master command from CPM and the local board having the second priority receive at the sam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ime. And the CPM will use the outside clock from the local board having the first priorit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Duplication 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852480"/>
            <a:ext cx="86868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Precondition  to make the activation of the duplication 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oth CPM should have same IP address and MAC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the system should have CS1000.D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3) After the standby CPM inserts, should wait about one minute until the standby CPM read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CS1000.DT and FUNC.DT. Also you should do when you orders the make_seed to CP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by OM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When the standby CPM completes to read the data seed files, you will see the change of th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tatus LED in front of CP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Range :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just only 1st convers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s :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If you want to restart the system having CPM duplication, you should press not the standby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reset button but the active CPM reset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If you want to discard the active CPM, you should push the disk access stick in front of CP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to the disable status direc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Duplication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j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1st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93760" y="914400"/>
            <a:ext cx="381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reparing process of the the duplication 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O to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gin ID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P&amp;MAC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2819520"/>
            <a:ext cx="3047760" cy="8380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the reset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 the active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j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2nd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0384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P&amp;MAC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114800"/>
            <a:ext cx="3047760" cy="8380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the reset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 the active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4114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562720"/>
            <a:ext cx="6248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* Wait….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  : Until the status LED of the restarting CPM moves fr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            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top to botto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Day/Night Mo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741240"/>
            <a:ext cx="868680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Automatic Day/Night Mode Chang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y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hould set the Night Bar Use Option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in OMS Menu 16.3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by ATD Night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hould reset the Night Bar Use Option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in OMS Menu 16.3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Manual Day/Night Mode Chang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y feature code of AT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ay Mode Set    : Admin + 4 + 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ight Mode Set  : Admin + 4 +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by feature code of predefined extens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ay Mode Set    : *62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ight Mode Set  : *6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Verify the system Mode in LCD of AT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1522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I0" descr=""/>
          <p:cNvPicPr/>
          <p:nvPr/>
        </p:nvPicPr>
        <p:blipFill>
          <a:blip r:embed="rId1"/>
          <a:stretch/>
        </p:blipFill>
        <p:spPr>
          <a:xfrm>
            <a:off x="228600" y="2019240"/>
            <a:ext cx="4343400" cy="4000680"/>
          </a:xfrm>
          <a:prstGeom prst="rect">
            <a:avLst/>
          </a:prstGeom>
          <a:ln w="0">
            <a:noFill/>
          </a:ln>
        </p:spPr>
      </p:pic>
      <p:pic>
        <p:nvPicPr>
          <p:cNvPr id="191" name="I1" descr=""/>
          <p:cNvPicPr/>
          <p:nvPr/>
        </p:nvPicPr>
        <p:blipFill>
          <a:blip r:embed="rId2"/>
          <a:stretch/>
        </p:blipFill>
        <p:spPr>
          <a:xfrm>
            <a:off x="4648320" y="2019240"/>
            <a:ext cx="43434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152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6" name="I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1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5486400" cy="4038480"/>
          </a:xfrm>
          <a:prstGeom prst="rect">
            <a:avLst/>
          </a:prstGeom>
          <a:ln w="0">
            <a:noFill/>
          </a:ln>
        </p:spPr>
      </p:pic>
      <p:pic>
        <p:nvPicPr>
          <p:cNvPr id="198" name="2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333684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3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5520" y="9036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stallation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HW 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S232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Emulato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gin ID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skOnChi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f Lin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By Ctrl-Z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 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048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tem Set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formation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1.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 Init. 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2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191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Holiday Set b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op-up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191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Number P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by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utomati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op-up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cal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ata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2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runk Acces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de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25780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C Digit Remov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unt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525780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thers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ach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257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257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Back-Up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runk Outgo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Group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ia SI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26668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60958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Network Syn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5257800"/>
            <a:ext cx="2057400" cy="8380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6960" y="9036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Upgrade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func.d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mpatibi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  <a:ea typeface="새굴림"/>
              </a:rPr>
              <a:t>X change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pmstx.d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7242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pply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670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904040" y="1235160"/>
            <a:ext cx="22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s there any speci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or this version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BD04924_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34600" y="990720"/>
            <a:ext cx="25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 must 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release notic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know what is different fro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vious 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BD00028_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ew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Version Rele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724280"/>
            <a:ext cx="2057400" cy="83844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724280"/>
            <a:ext cx="1981080" cy="838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W Status Che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ersion Check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7242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91120"/>
            <a:ext cx="2286000" cy="52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grade(v3.20Xx or below  -&gt; v3.25 or ab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040" y="7632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Memory Descrip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" y="887400"/>
            <a:ext cx="736596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oot PROM 4 M bit : Monitor Program for Off Line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one PROM 4 M bit : Call Processing Tone Resource + DTMF Resour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RAM 16 M byte : OS + S/W + User Data Base + Working Data Base + Stac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iskOnChip 8M byte or 16M byte with File Sys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: All System Fi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NVRAM in Clock Chip 50 byte : Network Configure Inform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RAM 0 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4800" y="763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Fil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762120"/>
            <a:ext cx="85341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cs1000.dt    : back up file for data generated by OMS manually. (numbering plan, LCR, speed code.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func.dt         : back up file for data generated by user automatically when the user uses some featur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(call forward, wake up, message wait…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dconf.dt      : back up file for data generated in part of OMS diagnosis manual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acdgen.dt    : back up file for data generated by ACD Manager manually. (CCV, agent info…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speed.dt      : special back up file for only speed cod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lcr.dt            : special back up file for only LCR info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upgrade.dt  : back up file for all kind of data in func.dt. (will include flex.dt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sk Queue 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fault.dq        : system fault message queue for communication with OM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netft.dq        : slave system fault message queue for communication with OMS.(Centralized Alar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pmxtx.dq     : PMS TX message queue for HOTEL Service and SMDA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smda2.dq    : Duplicated SMDA TX message queu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config.sys    : system initial configuration file for VMS, SMDA, ANI info…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914400"/>
            <a:ext cx="8305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$ di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in drive DiskOnChip has no lab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Serial Number is n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irectory of DiskOnChip:\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pm.img             3560592  01-31-2002 17:23: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mstx.dq            1000016  01-31-2002 17:26: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ault.dq                    2416  02-01-2002 17:44:0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unc.dt                 932989  02-01-2002 17:03:1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conf.dt                  2096   02-01-2002 17:46:0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s1000.dt              59626   02-01-2002 10:30:19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6 file(s)    5557735 byt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0 dir(s)     2562048 bytes fre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otal = about 8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7320" y="763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iskOnChip (8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884160"/>
            <a:ext cx="655308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$ di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in drive DiskOnChip has no lab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Serial Number is n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irectory of DiskOnChip:\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pm.img             4709808  12-08-2003 17:13: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s1000.dt               98749  12-08-2003 17:19:0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mstx.dq            2400016  12-23-2003 14:08: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ault.dq                    2416  12-29-2003 10:56: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netft.dq                  28016  12-22-2003 15:22:2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mda2.dq            2400016  11-15-2003 10:32:1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unc.dt                  933228  12-23-2003 17:32: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conf.dt                   2096  12-23-2003 14:08:3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onfig.sys                    22  11-15-2003 11:05:2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9 file(s)    10574367 byt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0 dir(s)     5724160 bytes fre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otal = about 16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57320" y="763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iskOnChip (16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6960" y="7632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FTP Manag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ftp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800" y="76320"/>
            <a:ext cx="39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Initial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762120"/>
            <a:ext cx="2286000" cy="2286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066680"/>
            <a:ext cx="2286000" cy="144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S load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.img load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fig.sys re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conf.dt read or creation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ault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mstx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mda2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666880"/>
            <a:ext cx="2286000" cy="228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otection Data Base Init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048120"/>
            <a:ext cx="2210040" cy="533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733920"/>
            <a:ext cx="2286000" cy="53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otection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791320"/>
            <a:ext cx="2286000" cy="228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orking Data Base Init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1981080"/>
            <a:ext cx="220968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743200"/>
            <a:ext cx="228600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orking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581280"/>
            <a:ext cx="17524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17524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rea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220968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UNC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752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7924680" y="3276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791320"/>
            <a:ext cx="2743200" cy="304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all Main() 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0560" y="3200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6546960" y="1523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76899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4419720"/>
            <a:ext cx="2210040" cy="533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CDGEN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5105520"/>
            <a:ext cx="2286000" cy="53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CD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40:05Z</dcterms:created>
  <dc:creator>Jerry Joo</dc:creator>
  <dc:description/>
  <dc:language>en-US</dc:language>
  <cp:lastModifiedBy>jmchoi</cp:lastModifiedBy>
  <dcterms:modified xsi:type="dcterms:W3CDTF">2004-01-16T06:57:27Z</dcterms:modified>
  <cp:revision>209</cp:revision>
  <dc:subject/>
  <dc:title>PowerPoint 프레젠테이션</dc:title>
</cp:coreProperties>
</file>